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6D0D-E9E0-4D3A-A18D-1E53561E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D197-E0D4-4DDB-88B4-E73A18A5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5EEC-02B1-4C9B-9474-4196E473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36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6364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008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36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6364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888B-E177-4CED-B500-4C50A379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A47D9-76D3-4CF5-9F1F-6BFB4170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20309-041F-47CA-8F67-549712B0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3FEE-5CB4-4919-880C-F4C29E0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8246A-AF42-4910-AFBF-CEB800E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03C5-63A1-4674-B61C-930CC3C6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66600" y="444240"/>
            <a:ext cx="79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D972-BE51-4C4F-88B5-A8A2952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763A5-D30B-41C7-8B6A-8350A7B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37A1-C19B-4176-AF23-D80BA6A4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C7D4-5B33-48E5-8450-F1CDD9E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8E69-BD25-428C-B614-DF5CFF2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76163-1194-4759-801E-F4F10512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56DC0-FB1F-48FE-B37D-BF898D09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600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3640" y="168408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08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600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3640" y="401076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9294F-7340-41F4-81B8-5DA51D94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521D-9FA9-4CEB-A715-2CAF80D3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6D71-15AA-44DD-B704-D4502DD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148B-84A6-4691-8260-3C1F6BA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66600" y="444240"/>
            <a:ext cx="79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37A9-3C63-44BD-9B83-0D12ACF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4D9D-E742-4F3B-90D2-D7212C2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90680" y="401076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4A44-682A-49FB-B3F2-A7EC4C1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90680" y="168408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08000" y="40107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FFFE-5090-4576-B469-666A2778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3722760" y="1455840"/>
              <a:ext cx="5343480" cy="339480"/>
            </a:xfrm>
            <a:custGeom>
              <a:avLst/>
              <a:gdLst>
                <a:gd name="textAreaLeft" fmla="*/ 0 w 5343480"/>
                <a:gd name="textAreaRight" fmla="*/ 5343840 w 534348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3200" y="41400"/>
              <a:ext cx="2432160" cy="1982520"/>
            </a:xfrm>
            <a:custGeom>
              <a:avLst/>
              <a:gdLst>
                <a:gd name="textAreaLeft" fmla="*/ 0 w 2432160"/>
                <a:gd name="textAreaRight" fmla="*/ 2432520 w 2432160"/>
                <a:gd name="textAreaTop" fmla="*/ 0 h 1982520"/>
                <a:gd name="textAreaBottom" fmla="*/ 1982880 h 1982520"/>
              </a:gdLst>
              <a:ahLst/>
              <a:rect l="textAreaLeft" t="textAreaTop" r="textAreaRight" b="textAreaBottom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090880" y="561960"/>
              <a:ext cx="7053120" cy="74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1449360"/>
              <a:ext cx="9144000" cy="235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974880" y="638280"/>
              <a:ext cx="8169120" cy="8125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66600"/>
              <a:ext cx="2281320" cy="1833480"/>
            </a:xfrm>
            <a:custGeom>
              <a:avLst/>
              <a:gdLst>
                <a:gd name="textAreaLeft" fmla="*/ 0 w 2281320"/>
                <a:gd name="textAreaRight" fmla="*/ 2281680 w 2281320"/>
                <a:gd name="textAreaTop" fmla="*/ 0 h 1833480"/>
                <a:gd name="textAreaBottom" fmla="*/ 1833840 h 1833480"/>
              </a:gdLst>
              <a:ahLst/>
              <a:rect l="textAreaLeft" t="textAreaTop" r="textAreaRight" b="textAreaBottom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523800" y="122400"/>
              <a:ext cx="973080" cy="97308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687240" y="144792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82680" y="1446120"/>
              <a:ext cx="306360" cy="238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03320" y="1446120"/>
              <a:ext cx="295200" cy="23832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360 h 806400"/>
                  <a:gd name="textAreaBottom" fmla="*/ 80712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>
                  <a:gd name="textAreaLeft" fmla="*/ 360 w 703440"/>
                  <a:gd name="textAreaRight" fmla="*/ 70416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ldNum" idx="2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C93-36BF-4D11-8B19-B963AB18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dt" idx="3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Rectangle 3"/>
            <p:cNvSpPr/>
            <p:nvPr/>
          </p:nvSpPr>
          <p:spPr>
            <a:xfrm>
              <a:off x="3581280" y="4343400"/>
              <a:ext cx="5562720" cy="914400"/>
            </a:xfrm>
            <a:prstGeom prst="rect">
              <a:avLst/>
            </a:prstGeom>
            <a:gradFill rotWithShape="0">
              <a:gsLst>
                <a:gs pos="0">
                  <a:srgbClr val="71b7b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3711600" y="4259160"/>
              <a:ext cx="5343480" cy="339840"/>
            </a:xfrm>
            <a:custGeom>
              <a:avLst/>
              <a:gdLst>
                <a:gd name="textAreaLeft" fmla="*/ 0 w 5343480"/>
                <a:gd name="textAreaRight" fmla="*/ 5343840 w 53434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0" y="2362320"/>
              <a:ext cx="9144000" cy="198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0" y="24382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0" y="0"/>
              <a:ext cx="3584520" cy="343368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3433680"/>
                <a:gd name="textAreaBottom" fmla="*/ 3434040 h 3433680"/>
              </a:gdLst>
              <a:ahLst/>
              <a:rect l="textAreaLeft" t="textAreaTop" r="textAreaRight" b="textAreaBottom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135000" y="130320"/>
              <a:ext cx="1743120" cy="174276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687240" y="427356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382680" y="4272120"/>
              <a:ext cx="306360" cy="2379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103320" y="4272120"/>
              <a:ext cx="295200" cy="23796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4" name="Rectangle 14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5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8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9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360 h 806400"/>
                  <a:gd name="textAreaBottom" fmla="*/ 80712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1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>
                  <a:gd name="textAreaLeft" fmla="*/ 360 w 703440"/>
                  <a:gd name="textAreaRight" fmla="*/ 704160 w 70344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E0D-64F3-4274-BE6D-A75C40DB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IR Stem-Changing Verbs follow different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--&gt; I Stem-Changers keep the I in the 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--&gt; IE Stem-Changers DROP the E in the NOSOTROS and keep th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--&gt; IE Stem-Changers DROP the E in the NOSOTROS and keep th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D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--&gt; UE Stem-Changers DROP the E in the NOSOTROS and keep the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Á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opposite vowel”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ER / 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4368960"/>
          <a:ext cx="2438280" cy="17269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876920" y="4368960"/>
          <a:ext cx="2514600" cy="172692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8000" y="1684440"/>
            <a:ext cx="7772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84440"/>
            <a:ext cx="91440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start with YO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find irregulars (other than dishes)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g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g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OC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ozc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OZ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S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ns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RMI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rmo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, des, dé, demos, 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ya, vayas, vaya, vayamos, va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, seas, sea, seamos, s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a, hayas, haya, hayamos, ha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é, estés, esté, estemos, es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, sepas, sepa, sepamos, se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130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END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CAR, TOCAR, 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9130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END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AR, JUGAR, 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91304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END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jemplo:EMPEZAR, COMENZAR, ALMOR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- CH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OSOTROS form of EMPEZAR dropped the stem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MO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ÉI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R and -ER stem-changing verbs will drop the change in the nos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44:25Z</dcterms:created>
  <dc:creator>Jay Schaab</dc:creator>
  <dc:description/>
  <dc:language>en-US</dc:language>
  <cp:lastModifiedBy>jbarber</cp:lastModifiedBy>
  <dcterms:modified xsi:type="dcterms:W3CDTF">2011-02-09T19:18:24Z</dcterms:modified>
  <cp:revision>16</cp:revision>
  <dc:subject/>
  <dc:title>THE SUBJUNCTIVE</dc:title>
</cp:coreProperties>
</file>